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E16-2C7D-48D0-A688-35B6A780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896-AABE-4041-B4D1-313759A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FE0-5A86-4EC9-BA38-8D4D0FE0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7A3-EE82-470B-8517-DF06E61C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DEE-8878-4DF6-9832-B97C7D8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709-D06E-4459-826B-098CF709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FF4-215C-4DA9-B6E6-A604D274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CA2-C2C4-4F20-9BBE-B66E68B0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CDF-0163-4ACF-BCB6-7B999D49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3B6-2213-46E8-8D62-4DB15678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EF9-03D3-4B45-8EC2-59D2DCB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491-EE8B-49C3-8673-9E10053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97A9-0A25-45C5-AD73-A64AEC9815E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2"/>
          <p:cNvSpPr/>
          <p:nvPr/>
        </p:nvSpPr>
        <p:spPr>
          <a:xfrm>
            <a:off x="1344960" y="2060640"/>
            <a:ext cx="66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ELIER DE FORMATION SUR LES TEMPETES DE S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T DE POUSSIERE EN AFRIQUE DE L’OUEST ET DU N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aixaDeTexto 3"/>
          <p:cNvSpPr/>
          <p:nvPr/>
        </p:nvSpPr>
        <p:spPr>
          <a:xfrm>
            <a:off x="1763640" y="30686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akar Sénégal, du 09 - 11 Décembre 20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4"/>
          <p:cNvSpPr/>
          <p:nvPr/>
        </p:nvSpPr>
        <p:spPr>
          <a:xfrm>
            <a:off x="2349720" y="3645000"/>
            <a:ext cx="39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esenté par:  Cherno Luis M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l: +245 95 695 66 40/96 660 64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ail: chernoluis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539640" y="5013360"/>
            <a:ext cx="1438560" cy="885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7" descr=""/>
          <p:cNvPicPr/>
          <p:nvPr/>
        </p:nvPicPr>
        <p:blipFill>
          <a:blip r:embed="rId2"/>
          <a:stretch/>
        </p:blipFill>
        <p:spPr>
          <a:xfrm>
            <a:off x="2268360" y="5013360"/>
            <a:ext cx="478800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Imagem 8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7636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Imagem 9" descr=""/>
          <p:cNvPicPr/>
          <p:nvPr/>
        </p:nvPicPr>
        <p:blipFill>
          <a:blip r:embed="rId4"/>
          <a:stretch/>
        </p:blipFill>
        <p:spPr>
          <a:xfrm>
            <a:off x="1547640" y="260280"/>
            <a:ext cx="540072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LISATION DU P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13" descr="Mapa_Guine-Bissau.GIF"/>
          <p:cNvPicPr/>
          <p:nvPr/>
        </p:nvPicPr>
        <p:blipFill>
          <a:blip r:embed="rId1"/>
          <a:stretch/>
        </p:blipFill>
        <p:spPr>
          <a:xfrm>
            <a:off x="395280" y="907920"/>
            <a:ext cx="42480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Image 9" descr="500_F_19302652_zRBFWjfZoXAKQE6rxRJdcLvTUspbRaoH.jpg"/>
          <p:cNvPicPr/>
          <p:nvPr/>
        </p:nvPicPr>
        <p:blipFill>
          <a:blip r:embed="rId2"/>
          <a:stretch/>
        </p:blipFill>
        <p:spPr>
          <a:xfrm>
            <a:off x="4643280" y="907920"/>
            <a:ext cx="3961080" cy="2737080"/>
          </a:xfrm>
          <a:prstGeom prst="rect">
            <a:avLst/>
          </a:prstGeom>
          <a:ln w="0">
            <a:noFill/>
          </a:ln>
        </p:spPr>
      </p:pic>
      <p:sp>
        <p:nvSpPr>
          <p:cNvPr id="51" name="Ellipse 11"/>
          <p:cNvSpPr/>
          <p:nvPr/>
        </p:nvSpPr>
        <p:spPr>
          <a:xfrm>
            <a:off x="4932360" y="1773360"/>
            <a:ext cx="287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èche gauche 16"/>
          <p:cNvSpPr/>
          <p:nvPr/>
        </p:nvSpPr>
        <p:spPr>
          <a:xfrm>
            <a:off x="4427640" y="1844640"/>
            <a:ext cx="533160" cy="21276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52280" y="38624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is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’Ouest de l’Afrique entre le Sud du Sénégal et le Nord de la Guinée-Conakry, la partie littorale par l’Océan Atlan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6.125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pul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.500.000 Habitants   (Selon le recensement de 200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ma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 Tropical humide avec deux saisons (Sèche et pluvieu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pitation total/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500mm à 2000mm/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yen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6 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LE VENT D’HARMATTAN    CHAUD  ET SEC, AVEC LA  POUSSI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rcRect l="0" t="0" r="-4935" b="57647"/>
          <a:stretch/>
        </p:blipFill>
        <p:spPr>
          <a:xfrm>
            <a:off x="1042920" y="1125360"/>
            <a:ext cx="7446960" cy="431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1406880" y="299736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Inver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émisphère</a:t>
            </a: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  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ANALYSE DES IMAGES ET  LES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075200" cy="388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LA SYNERGIE PUMA2015  POUR DETECTER  LA POUSSI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1187280" y="170028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LES IMAGES MSG DE POUSSI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1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679560" cy="3384720"/>
          </a:xfrm>
          <a:prstGeom prst="rect">
            <a:avLst/>
          </a:prstGeom>
          <a:ln w="0">
            <a:noFill/>
          </a:ln>
        </p:spPr>
      </p:pic>
      <p:pic>
        <p:nvPicPr>
          <p:cNvPr id="63" name="Imagem 5" descr="E:\TRAINING_SAWIDRA-CRA_2019\TRAINING-CRA\dust_rgb_with3_RGBinputs.jpg"/>
          <p:cNvPicPr/>
          <p:nvPr/>
        </p:nvPicPr>
        <p:blipFill>
          <a:blip r:embed="rId2"/>
          <a:srcRect l="26457" t="0" r="0" b="2910"/>
          <a:stretch/>
        </p:blipFill>
        <p:spPr>
          <a:xfrm>
            <a:off x="4427640" y="2349360"/>
            <a:ext cx="459108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RODUIT DE BARCELONA DUST FORECAST CE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E:\TRAINING-CRA\2019112412-3H_SDSWAS_NMMB-BSC-v2_OPER-OD550_DUST--loop- (1).gif"/>
          <p:cNvPicPr/>
          <p:nvPr/>
        </p:nvPicPr>
        <p:blipFill>
          <a:blip r:embed="rId1"/>
          <a:stretch/>
        </p:blipFill>
        <p:spPr>
          <a:xfrm>
            <a:off x="1332000" y="1628640"/>
            <a:ext cx="6896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VIRONEMENT  LITORAL TOUCHE PAR LA POUSSI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Image result for Imagem de canoa de pesca artesanal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Imagem 5" descr="Image result for Image de Poussiere suspension  Guiné-Bissau&quot;"/>
          <p:cNvPicPr/>
          <p:nvPr/>
        </p:nvPicPr>
        <p:blipFill>
          <a:blip r:embed="rId2"/>
          <a:stretch/>
        </p:blipFill>
        <p:spPr>
          <a:xfrm>
            <a:off x="4788000" y="1557360"/>
            <a:ext cx="3733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IMPACT AU NIVEAU DE TRANSPORT MARI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 11" descr="Arquipelago-Dos-Bijagos.jpg"/>
          <p:cNvPicPr/>
          <p:nvPr/>
        </p:nvPicPr>
        <p:blipFill>
          <a:blip r:embed="rId1"/>
          <a:stretch/>
        </p:blipFill>
        <p:spPr>
          <a:xfrm>
            <a:off x="684360" y="1628640"/>
            <a:ext cx="3154320" cy="3240360"/>
          </a:xfrm>
          <a:prstGeom prst="rect">
            <a:avLst/>
          </a:prstGeom>
          <a:ln w="0">
            <a:noFill/>
          </a:ln>
        </p:spPr>
      </p:pic>
      <p:pic>
        <p:nvPicPr>
          <p:cNvPr id="71" name="Image 12" descr="resort.jpg"/>
          <p:cNvPicPr/>
          <p:nvPr/>
        </p:nvPicPr>
        <p:blipFill>
          <a:blip r:embed="rId2"/>
          <a:stretch/>
        </p:blipFill>
        <p:spPr>
          <a:xfrm>
            <a:off x="4500720" y="170028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ACT ECONOM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69192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icultur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a floraison d’anacarde, de Niébé , d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almier  à huile 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4" descr="images (66).jpg"/>
          <p:cNvPicPr/>
          <p:nvPr/>
        </p:nvPicPr>
        <p:blipFill>
          <a:blip r:embed="rId1"/>
          <a:stretch/>
        </p:blipFill>
        <p:spPr>
          <a:xfrm>
            <a:off x="2771640" y="170028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5" descr="images (64).jpg"/>
          <p:cNvPicPr/>
          <p:nvPr/>
        </p:nvPicPr>
        <p:blipFill>
          <a:blip r:embed="rId2"/>
          <a:stretch/>
        </p:blipFill>
        <p:spPr>
          <a:xfrm>
            <a:off x="539640" y="177336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76" name="Image 6" descr="chabeu.jpeg"/>
          <p:cNvPicPr/>
          <p:nvPr/>
        </p:nvPicPr>
        <p:blipFill>
          <a:blip r:embed="rId3"/>
          <a:stretch/>
        </p:blipFill>
        <p:spPr>
          <a:xfrm>
            <a:off x="6156360" y="14842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Image 10" descr="Le-Conseil-d-Etat-autorise-la-culture-du-mais-OGM-MON810_large_apimobile.jpg"/>
          <p:cNvPicPr/>
          <p:nvPr/>
        </p:nvPicPr>
        <p:blipFill>
          <a:blip r:embed="rId4"/>
          <a:stretch/>
        </p:blipFill>
        <p:spPr>
          <a:xfrm>
            <a:off x="2771640" y="4005360"/>
            <a:ext cx="2576520" cy="2585880"/>
          </a:xfrm>
          <a:prstGeom prst="rect">
            <a:avLst/>
          </a:prstGeom>
          <a:ln w="0">
            <a:noFill/>
          </a:ln>
        </p:spPr>
      </p:pic>
      <p:pic>
        <p:nvPicPr>
          <p:cNvPr id="78" name="Image 11" descr="feijao.jpg"/>
          <p:cNvPicPr/>
          <p:nvPr/>
        </p:nvPicPr>
        <p:blipFill>
          <a:blip r:embed="rId5"/>
          <a:stretch/>
        </p:blipFill>
        <p:spPr>
          <a:xfrm>
            <a:off x="6156360" y="385920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19:34:14Z</dcterms:created>
  <dc:creator>CHERNO</dc:creator>
  <dc:description/>
  <dc:language>en-US</dc:language>
  <cp:lastModifiedBy>CHERNO</cp:lastModifiedBy>
  <dcterms:modified xsi:type="dcterms:W3CDTF">2019-12-11T10:59:50Z</dcterms:modified>
  <cp:revision>42</cp:revision>
  <dc:subject/>
  <dc:title>INTRODUCTION</dc:title>
</cp:coreProperties>
</file>